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85D36-41BB-4E54-ACF1-D8ABA6D7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AD3A7-FA98-4F9D-90C7-857BBDF8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B958F-083C-400E-B34F-72BB431B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A16E8-0C18-4CF8-BF08-5BA11573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C36D-AA55-45E0-923B-70B1775A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EECD-97E4-4A64-AF6A-DB6AC44E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A56D-4763-4215-8E73-4614A463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91CA-62EF-43D1-A7E6-1429A1B7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0EC6-7088-4765-AEDA-83D3F76A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E60D-98C1-43E1-904E-FB03FCD7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8383-2265-4260-A111-DAEC6C37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1A8E2-ACDB-45CC-A1C1-4E62221D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51A4-B298-4787-B7A6-6F0AFDF5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ED0A-39B2-41F5-B084-93705570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C584-63D2-4289-A1BC-038F6FDE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3A0C-59B2-4C83-B40B-DDC07EB1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70FB-D639-49C6-ACE9-6B73A48D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8C2A5-29F2-4D0A-807F-2B285186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868B5-328D-433D-B3B9-681774C3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E6AEA-DFD8-449E-91AE-FD6C6CA3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50804-115F-4E25-B7A0-BC319DF3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2AE6-4194-4D7D-80FE-5B5FDBCE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1A5F7-51F3-41D3-94A0-F86CC6CA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F78A0-A6FE-43C2-AA3D-E61FC97E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D5FD-EBA1-46FE-935B-FB17346064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C26D-51A0-4D0F-B64F-5BB60B3037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ll Cipher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polygraphic cipher was developed by the mathematician Lester Hill in 1929 - called the Hill Cip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cessive plaintext letters and substitutes for them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phertex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BAFD6-B9A8-41C7-95CD-DF63ACC3AE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3276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haracter is assigned a numerical val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, b = 1, . . ., z = 2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the transformation of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iven by 3 equation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80320" y="4700520"/>
            <a:ext cx="364068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2560" y="4664160"/>
            <a:ext cx="3841560" cy="1561680"/>
            <a:chOff x="1942560" y="4664160"/>
            <a:chExt cx="3841560" cy="1561680"/>
          </a:xfrm>
        </p:grpSpPr>
        <p:grpSp>
          <p:nvGrpSpPr>
            <p:cNvPr id="119" name=""/>
            <p:cNvGrpSpPr/>
            <p:nvPr/>
          </p:nvGrpSpPr>
          <p:grpSpPr>
            <a:xfrm>
              <a:off x="3794040" y="4664160"/>
              <a:ext cx="1990080" cy="1561680"/>
              <a:chOff x="3794040" y="4664160"/>
              <a:chExt cx="1990080" cy="1561680"/>
            </a:xfrm>
          </p:grpSpPr>
          <p:sp>
            <p:nvSpPr>
              <p:cNvPr id="120" name=""/>
              <p:cNvSpPr/>
              <p:nvPr/>
            </p:nvSpPr>
            <p:spPr>
              <a:xfrm>
                <a:off x="3794040" y="472104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84240" y="469260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374800" y="466416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94040" y="526392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84240" y="523548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74800" y="5207040"/>
                <a:ext cx="409320" cy="40896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94040" y="581652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84240" y="5788080"/>
                <a:ext cx="409320" cy="40896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74800" y="575928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942560" y="528480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K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CE27D-DAEC-4A60-86FF-22F9DF1C53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160" y="1636560"/>
            <a:ext cx="774396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ll cipher is really a matrix multipl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ciphering key is an n x n matrix,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iphering key is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f n = 3 one possible key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053000" y="4057560"/>
            <a:ext cx="3120120" cy="1074240"/>
            <a:chOff x="1053000" y="4057560"/>
            <a:chExt cx="3120120" cy="1074240"/>
          </a:xfrm>
        </p:grpSpPr>
        <p:sp>
          <p:nvSpPr>
            <p:cNvPr id="133" name=""/>
            <p:cNvSpPr/>
            <p:nvPr/>
          </p:nvSpPr>
          <p:spPr>
            <a:xfrm>
              <a:off x="1706400" y="4214880"/>
              <a:ext cx="246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7  17  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1  18 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   2  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53000" y="4057560"/>
              <a:ext cx="2974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 =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(       )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978440" y="4073400"/>
            <a:ext cx="3331800" cy="1034640"/>
            <a:chOff x="4978440" y="4073400"/>
            <a:chExt cx="3331800" cy="1034640"/>
          </a:xfrm>
        </p:grpSpPr>
        <p:sp>
          <p:nvSpPr>
            <p:cNvPr id="136" name=""/>
            <p:cNvSpPr/>
            <p:nvPr/>
          </p:nvSpPr>
          <p:spPr>
            <a:xfrm>
              <a:off x="5843520" y="4191120"/>
              <a:ext cx="246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   9  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5  17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4   0  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78440" y="4073400"/>
              <a:ext cx="3183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(       )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341720" y="547992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   ‘n o 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8520" y="5705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14 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319560" y="5310360"/>
            <a:ext cx="4036320" cy="1458360"/>
            <a:chOff x="3319560" y="5310360"/>
            <a:chExt cx="4036320" cy="1458360"/>
          </a:xfrm>
        </p:grpSpPr>
        <p:sp>
          <p:nvSpPr>
            <p:cNvPr id="141" name=""/>
            <p:cNvSpPr/>
            <p:nvPr/>
          </p:nvSpPr>
          <p:spPr>
            <a:xfrm>
              <a:off x="3319560" y="5334120"/>
              <a:ext cx="2854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3351240" y="5310360"/>
              <a:ext cx="4004640" cy="801720"/>
              <a:chOff x="3351240" y="5310360"/>
              <a:chExt cx="4004640" cy="801720"/>
            </a:xfrm>
          </p:grpSpPr>
          <p:sp>
            <p:nvSpPr>
              <p:cNvPr id="143" name=""/>
              <p:cNvSpPr/>
              <p:nvPr/>
            </p:nvSpPr>
            <p:spPr>
              <a:xfrm>
                <a:off x="4398840" y="5343840"/>
                <a:ext cx="366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3351240" y="5310360"/>
                <a:ext cx="4004640" cy="801720"/>
                <a:chOff x="3351240" y="5310360"/>
                <a:chExt cx="4004640" cy="801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511080" y="5446800"/>
                  <a:ext cx="91224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7 17  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1 18 2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  2 1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351240" y="5310360"/>
                  <a:ext cx="366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820400" y="5343840"/>
                  <a:ext cx="2535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) = ( )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od 2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30720" y="5337360"/>
                  <a:ext cx="366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618440" y="5470560"/>
                  <a:ext cx="3636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836320" y="5451480"/>
                  <a:ext cx="3636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1" name=""/>
          <p:cNvGrpSpPr/>
          <p:nvPr/>
        </p:nvGrpSpPr>
        <p:grpSpPr>
          <a:xfrm>
            <a:off x="5600160" y="6068520"/>
            <a:ext cx="842040" cy="791640"/>
            <a:chOff x="5600160" y="6068520"/>
            <a:chExt cx="842040" cy="791640"/>
          </a:xfrm>
        </p:grpSpPr>
        <p:sp>
          <p:nvSpPr>
            <p:cNvPr id="152" name=""/>
            <p:cNvSpPr/>
            <p:nvPr/>
          </p:nvSpPr>
          <p:spPr>
            <a:xfrm>
              <a:off x="5600160" y="640044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 u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013440" y="6068520"/>
              <a:ext cx="0" cy="4921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2BA2-2D21-4BB4-A432-F9C0BED558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3520" y="178740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 will create a Hill cipher for groups of 2 to 6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790720" y="3552840"/>
            <a:ext cx="4735440" cy="3068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381560" y="3583080"/>
            <a:ext cx="1390680" cy="676080"/>
          </a:xfrm>
          <a:prstGeom prst="wedgeRoundRectCallout">
            <a:avLst>
              <a:gd name="adj1" fmla="val -43722"/>
              <a:gd name="adj2" fmla="val 60796"/>
              <a:gd name="adj3" fmla="val 16667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First, enter the group size – which is the same as the matrix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1160" y="3068640"/>
            <a:ext cx="1390680" cy="676440"/>
          </a:xfrm>
          <a:prstGeom prst="wedgeRoundRectCallout">
            <a:avLst>
              <a:gd name="adj1" fmla="val -43722"/>
              <a:gd name="adj2" fmla="val 60796"/>
              <a:gd name="adj3" fmla="val 16667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CAP will generate a matrix for you or you can load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75538-AF31-4022-8F39-78F6B4544A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8T02:53:41Z</dcterms:modified>
  <cp:revision>68</cp:revision>
  <dc:subject/>
  <dc:title>CAP Cryptographic Analysis Program</dc:title>
</cp:coreProperties>
</file>